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7E6-8FFB-4ABC-9609-2476B9F2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7C4-7C52-41A2-B658-9AC4106D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DA6-1993-4997-A49B-2CEDE857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DB6-8B00-4457-90C1-E0FF9B9E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9B97-E24E-45E1-A80F-BE447DA7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F27-EFF5-4120-B33C-79AC450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89B-D7E9-4F58-A8B7-006F83DD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E96-AD03-4B86-95F3-AD4C144C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D6F4-4746-4508-8645-E88D785D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62F2-199F-4660-ACA4-2DED5AEB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936C-2248-43D8-9680-DE73634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1D7-67F6-468A-A69A-D5ACF49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3B02-EEBA-429E-B618-9FAF058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60E2-62D3-4E05-912C-96E6FAA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8B0-FFBB-47A1-BA6D-25E57B8A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F986-B7DF-471E-AB46-DF775D70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564-3F16-4E79-B34F-A1FC7F13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C95-E6B4-4FEB-9306-8A3EF476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309-865B-486F-AA18-0FCA8E3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778-B130-4323-BA22-C2A2B47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5C9-3F8B-42BB-8D53-0DFCA1C1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757-2E58-4FBF-BCE7-B561F87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ED0-0FF0-46BD-9D7A-EA0DCE8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127-7EC4-4021-A6E1-BFC50F6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BF38-F809-4983-9F78-BEA4863A8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A83-338A-4FFE-A834-864583B72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30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0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ada a pesquisa e apresentado o relatório exigido nos termos do inciso V do art. 22, o D.N.P.M. verificará sua exatidão e, à vista de parecer conclusivo, proferirá despacho d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aprovação do relatório, quando ficar demonstrada a existência de jazi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 - não aprovação do relatório, quando ficar constatada insuficiência dos trabalhos de pesquisa ou deficiência técnica na sua elaboraçã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I - arquivamento do relatório, quando ficar demonstrada a inexistência de jazida, passando a área a ser livre para futuro requerimento, inclusive com acesso do interessado ao relatório que concluiu pela referida inexistência de jazida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 - sobrestamento da decisão sobre o relatório, quando ficar caracterizada a impossibilidade temporária da exeqüibilidade técnico-econômica da lavra, conforme previsto no inciso III do art. 2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1º. Na hipótese prevista no inciso IV deste artigo, o D.N.P.M. fixará prazo para o interessado apresentar novo estudo da exeqüibilidade técnico-econômica da lavra, sob pena de arquivamento do relatór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§ 2º. Se, no novo estudo apresentado, não ficar demonstrada a exeqüibilidade técnico-econômica da lavra, o D.N.P.M. poderá conceder ao interessado, sucessivamente, novos prazos, ou colocar a área em disponibilidade, na forma do art. 32, se entender que terceiro poderá viabilizar a eventual lav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§ 3º. Comprovada a exeqüibilidade técnico-econômica da lavra, o D.N.P.M. proferirá, ex officio ou mediante provocação do interessado, despacho de aprovação do relatório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6:13Z</dcterms:modified>
  <cp:revision>62</cp:revision>
  <dc:subject/>
  <dc:title>Apresentação do PowerPoint</dc:title>
</cp:coreProperties>
</file>